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65A-A42B-4CF7-9481-ECFAD00E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F42-06B2-499E-A1F3-E7D56EB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3C6-FF38-4020-9BA2-60170CC8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4BA-F85F-4F5A-B895-8B957194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20C4-9D9F-4DE9-AEEA-CF8046F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B44A-E133-42A2-9C60-0FD3DB44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E73-2C32-4F14-AA53-AF06A1AD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B02-F51D-4720-9226-E2F2889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9C2-C5A7-47B1-8170-9C6EFED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BB6-B997-4EBF-8318-6374F99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CAC7-B900-4DF4-B3E4-1273539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236-5A9A-491D-B22C-9072499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FE6E-3E87-45AC-B261-F703BB8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6AC-F25B-4342-B224-C75E49A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2CB-A3A6-4BD2-B4FF-E7F4C61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672-7D93-4EAF-9A33-88F2E43E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B384-C3D2-435A-95B6-DFB3D0E5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3E5-23D9-4C62-ACED-408C256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3FC-7AE1-4710-8C66-92234FF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2D7-8780-43F5-9BDA-68194B7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C1A-6EE5-4768-9872-688991B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93C-24E0-4E30-89F3-5D0AF6F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67B-501F-4918-908E-83604D8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D5F-3F8E-4579-AF12-97F2CC13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D828-B576-4ECB-BAEB-B84ABC8D53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A5F-E5B3-45E0-A554-4EF16F622A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2120" y="-54000"/>
            <a:ext cx="10820520" cy="698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Persisten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Organic Pollu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71560" y="1719360"/>
            <a:ext cx="728172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 TAS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vide up into groups of 3 or 4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eate a summarized PowerPoint slide (1-3 slides) on your assigned topic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te all the main points and use photos/images if appl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523880"/>
            <a:ext cx="7848360" cy="62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1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o is the WWF &amp; What is the “Precautionary Principle”? (Internet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p. 1 -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2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are the effects of POP’s on wildlife? (pp. 1-6, 7-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3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are the effects of POP’s on people? (pp. 1-6, 9-1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roup 4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– What is “obsolete stockpiling” and what is a suggested  solution to the POP problem? (pp. 1-6, 14-1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381400"/>
            <a:ext cx="82296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cals that were developed to control disease, increase food production, and improve our standard of living are… a threat to biodiversity and human heal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W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82296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t Organic Pollutants are carbon-based compounds and mix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tic chemicals that resist the normal processes of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duction and release of vast quantities of these novel synthetic chemicals over the past 75 years (since WWII) has proved to be a great global experiment - one that now involves al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05120"/>
            <a:ext cx="82296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POP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t Organic Pollutants share four common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accumulation (Affinity for f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distance trave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319040"/>
            <a:ext cx="4226040" cy="5386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26384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they use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666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they use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434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71960" y="1447920"/>
            <a:ext cx="284796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15000" cy="450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ersistent Organic Polluta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490760"/>
            <a:ext cx="6095880" cy="47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3:24:02Z</dcterms:created>
  <dc:creator>pgrant</dc:creator>
  <dc:description/>
  <dc:language>en-US</dc:language>
  <cp:lastModifiedBy>pgrant</cp:lastModifiedBy>
  <dcterms:modified xsi:type="dcterms:W3CDTF">2005-03-18T16:13:50Z</dcterms:modified>
  <cp:revision>12</cp:revision>
  <dc:subject/>
  <dc:title>Slide 1</dc:title>
</cp:coreProperties>
</file>